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6051-50BF-41CB-BC07-9971EDD0AA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8332-9AE2-4C47-8447-3E53BE8778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F6A3-81DC-4E72-AB8E-0332888A36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9EFA-346B-4130-A5F9-687F0C724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D9D3-295C-44DD-87BA-FAB911ABAA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B362-7072-4560-9020-5BBC77DEC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D8F-93B6-4A2C-8530-EE217CE2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2D7-7904-49C9-A664-A2907979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AD4-7E3F-4772-A460-834D46B6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F70-2465-442E-BF41-91E50EF0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9D3-F813-4657-BC80-A89421EE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95C-223D-4D20-A562-0E396E55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1F1-1FB6-4B5B-A698-B2B4649C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FED-0B85-4AD9-A17F-06A2182A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B1E-FD01-4663-8726-4E141A69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B0B-CC3E-4F08-9B9F-9870F0B5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0E3-7C78-4378-99C0-84ADFE96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924-0E8A-4479-9B7E-5AB79DB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F6DA-5AE9-4515-AC79-A3DFEDADA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iajes-a.net/pais/Italia-94.htm" TargetMode="External"/><Relationship Id="rId2" Type="http://schemas.openxmlformats.org/officeDocument/2006/relationships/hyperlink" Target="http://www.viajes-a.net/pais/Rusia-157.htm" TargetMode="External"/><Relationship Id="rId3" Type="http://schemas.openxmlformats.org/officeDocument/2006/relationships/hyperlink" Target="http://www.viajes-a.net/pais/Alemania-3.htm" TargetMode="External"/><Relationship Id="rId4" Type="http://schemas.openxmlformats.org/officeDocument/2006/relationships/hyperlink" Target="http://www.viajes-a.net/pais/Colombia-41.htm" TargetMode="External"/><Relationship Id="rId5" Type="http://schemas.openxmlformats.org/officeDocument/2006/relationships/hyperlink" Target="http://www.viajes-a.net/pais/Francia-66.htm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ajes-a.net/pais/Canada-35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785960" y="571680"/>
            <a:ext cx="442908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os vaqu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lg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mell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 sombr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m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os gu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a t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final clothes bits and b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find out the 10 most visited countries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race to make a duplicate of a poster (without seeing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learn the 10 most popular countries in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tal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458596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veranos son calurosos especialmente en el s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s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74095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cú, San Petersburgo y Kiev son las tres ciudades más impor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lema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51611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egar por las aguas del Rin, desde la ciudad de Koblen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lomb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41543 vis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ribe colombiano: Infinidad de playas con palm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ranc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31941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renas son magníficas para los deportes de navegación con v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6"/>
          <a:stretch/>
        </p:blipFill>
        <p:spPr>
          <a:xfrm>
            <a:off x="7164360" y="0"/>
            <a:ext cx="17287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65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nad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17671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mida es 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i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04092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mayoría de los lagos de Suiza podrá practicar windsurf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an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101685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ctividades turísticas que ofrece Holanda es extensí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rue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79577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ruecos ofrece innumerables posibi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ma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75049 vis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mania ofrece una amplia gama de posibilidades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7164360" y="0"/>
            <a:ext cx="17287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9640" y="1197000"/>
            <a:ext cx="2159280" cy="55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rue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a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u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nad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um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l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867280" y="1197000"/>
            <a:ext cx="2159280" cy="55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u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roc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79280" y="18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ecta el inglés y el españ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84360" y="620640"/>
            <a:ext cx="35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s países túri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(Touristy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0:41:59Z</dcterms:created>
  <dc:creator>cfuller</dc:creator>
  <dc:description/>
  <dc:language>en-US</dc:language>
  <cp:lastModifiedBy>Chris</cp:lastModifiedBy>
  <dcterms:modified xsi:type="dcterms:W3CDTF">2009-03-12T15:04:16Z</dcterms:modified>
  <cp:revision>8</cp:revision>
  <dc:subject/>
  <dc:title>Slide 1</dc:title>
</cp:coreProperties>
</file>